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/</a:t>
            </a:r>
            <a:fld id="{AE079664-2557-4316-8B30-851F9039C4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894600" y="752760"/>
            <a:ext cx="495324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189400" y="28353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81000" y="382680"/>
            <a:ext cx="4907160" cy="3679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056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3400" y="167652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056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3400" y="3943440"/>
            <a:ext cx="252612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695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7840" y="394344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7840" y="1676520"/>
            <a:ext cx="38282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943440"/>
            <a:ext cx="784548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6324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6666ff"/>
                </a:solidFill>
                <a:latin typeface="Bitstream Vera Sans"/>
              </a:rPr>
              <a:t>2003  TTÜ   T.Tammet   loeng 1                    </a:t>
            </a:r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- </a:t>
            </a:r>
            <a:fld id="{45C12FFB-AA92-4141-A05D-1079BE6C36B0}" type="slidenum"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&lt;number&gt;</a:t>
            </a:fld>
            <a:r>
              <a:rPr b="1" lang="en-GB" sz="1400" spc="-1" strike="noStrike">
                <a:solidFill>
                  <a:srgbClr val="6666ff"/>
                </a:solidFill>
                <a:latin typeface="Bitstream Vera Sans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6324480"/>
            <a:ext cx="7772400" cy="18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6952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45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XML baaskursus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issejuhatus.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XML põhiideed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nel Tamm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jaloolised/ideelised alused 1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SP: lisp keele põhiandmetüüp on list ehk s-expression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ulgudega eraldatud, tüübivaba loetelu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Ilma lisainfota 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“Nuia tume”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“Nuia õllevabrik”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“Nuia” “Tallinna mnt” 2) 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orter    8.90    5.4   “Järsumaitseline”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Lisainfoga näid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olu (nimi “Nuia tume”)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tootja (nimi “Nuia õllevabrik”)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aadress (kyla “Nuia”) (tanav  “Tallinna mnt”) (maja  2)) 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tyyp Porter) (hind 8.90) (kangus 5.4) (maitse “Järsumaitseline”)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20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jaloolised/ideelised alused 2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SGM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GML (generalized markup language): IBM, 1969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GML (standard generalized markup language): 198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simesed suuremad kasutused 1980-te keskel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ctronic Manuscript Project of the Association of American Publishers (AAP),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ocumentation component of the Computer-aided Acquisition and Logistic Support (CALS) initiative of the US Department of Defen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GML oli HTML keele inspiratsiooniks: süntaks on põhimõtteliselt samade põhimõteteg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 on veidi lihtsustatud variant SGML-s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21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Andmete esitamine XMLs: kaks võimalus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8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ks võimalus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nivaadatud: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dmed tagide vahe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ine variant: andmed tag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tribuutides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 valuuta=”EEK”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s neil vahet on? Tagide vahel olevatel andmetel võivad olla alamelemendid, atribuudi väärtuseks saab olla vaid struktuurita string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ide vahel võib olla palju samanimelisi tag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laos&gt;&lt;toode&gt;1&lt;/toode&gt;&lt;toode&gt;2&lt;/toode&gt;&lt;/lao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gal tagil võib olla mingi nimega atribuute vaid ü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l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&lt;hind valuuta=”EEK” valuuta=”EUR”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Õige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&lt;hind valuuta=”EEK” kaibemaks=”18”&gt;9.8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21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ariantvõimalus: tühi tag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ide vahel ei pea midagi olema, &lt;onlaos&gt;&lt;/onlaos&gt; on O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ühja dataga tagi on lubatud kirjutada lühemal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nlaos/&gt;                 on samaväärne kui    &lt;onlaos&gt;&lt;/onlao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nlaos arv=”3”/&gt;   on samuti OK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22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da tagid tegelikult tähendavad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654120"/>
            <a:ext cx="7848720" cy="69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hk, mida ütleb “hind” ja “curr” programmil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 curr=”EEK&gt;8.9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stus: XML mõttes mitte midagi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gidel ja atribuutidel ei ole XML-s mingit tähendus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ähenduse” annab iga XML teksti töötlev programm eraldi, st programm teeb ühe tagi puhul üht, teise puhul teist asja. See on puhtalt programmeerija otsusta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 keel on puhas süntaks, semantika puudub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229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ja HTML: semantikata ja semantikag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õrdleme XML-i ja HTML-i semantika aspektist (süntaks on sarnane: mõlemal on tagid ja atribuudid):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TML: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“tag”-del visuaalne semantika, st brauser näitab esimest rida bold fondiga, teist kaldkirjas:  &lt;b&gt; ja &lt;i&gt; tähendavad, et teksti tuleb just nii kujunda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&gt;Siin on paks tekst&lt;/b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i&gt;Siin on kaldkirjas tekst&lt;/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XML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“tag”-del semantika puudub: näiteks, järgmised tagid ei tähenda XML jaoks midag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&gt;Siin on paks tekst&lt;/b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autor&gt;Tanel Tammet&lt;/auto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inuaadress&gt;Kuiv 9&lt;/minuaadres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234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kasutuside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6160" indent="-32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pakub meile standardiseeritud, levinud süntaks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-32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da XML süntaksit saab kasutada uute keelte tegemiseks oma vajadustel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-32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Õigupoolest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 = SÜNTAKS + SEMANTIK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-32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ga XML on ainult  “poolik” keel, nagu ka CSV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-32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TML, SQL, JAVA, C jms on vastupidi, terviklikud keele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-32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ea iga keele jaoks saab teha XML süntaksi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-32616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eele tegemine XML süntaksiga tähendab, et tuleb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920" indent="-271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ikseerida mingi hulk tage ja atribuute ja anda neile tähendu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920" indent="-27108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äärata täiendavad reeglid (mis tag tohib millise all olla jne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160" indent="-3261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uigi XML ise on lihtne, on XML süntaksiga tehtud palju kasulikke keeli: nende konkreetsete keelte uurimine on aegavõttev ja teeb XML-nduse näiliselt keerulisek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239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-2412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kskurss edasistesse vajadustesse: võrguteenused ja semantic web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86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ternet: minevik, olevik, tulevi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õrguteenused ja .NE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is puudub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Vajaduste näit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emantic web: kihi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D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ntoloogia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oogik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ingi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lligentne võrk!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ajandi keskpaigaks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838080" y="608040"/>
            <a:ext cx="7769520" cy="303120"/>
            <a:chOff x="838080" y="608040"/>
            <a:chExt cx="7769520" cy="303120"/>
          </a:xfrm>
        </p:grpSpPr>
        <p:sp>
          <p:nvSpPr>
            <p:cNvPr id="246" name=""/>
            <p:cNvSpPr/>
            <p:nvPr/>
          </p:nvSpPr>
          <p:spPr>
            <a:xfrm>
              <a:off x="838080" y="909720"/>
              <a:ext cx="77677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605800" y="608040"/>
              <a:ext cx="180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828800" y="3429000"/>
            <a:ext cx="298440" cy="303120"/>
            <a:chOff x="1828800" y="3429000"/>
            <a:chExt cx="298440" cy="303120"/>
          </a:xfrm>
        </p:grpSpPr>
        <p:sp>
          <p:nvSpPr>
            <p:cNvPr id="249" name=""/>
            <p:cNvSpPr/>
            <p:nvPr/>
          </p:nvSpPr>
          <p:spPr>
            <a:xfrm>
              <a:off x="1828800" y="3429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28800" y="3429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2720" y="34290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181480" y="2514600"/>
            <a:ext cx="298440" cy="303120"/>
            <a:chOff x="5181480" y="2514600"/>
            <a:chExt cx="298440" cy="303120"/>
          </a:xfrm>
        </p:grpSpPr>
        <p:sp>
          <p:nvSpPr>
            <p:cNvPr id="253" name=""/>
            <p:cNvSpPr/>
            <p:nvPr/>
          </p:nvSpPr>
          <p:spPr>
            <a:xfrm>
              <a:off x="5181480" y="2514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480" y="2514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05400" y="2514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200400" y="3581280"/>
            <a:ext cx="298440" cy="303480"/>
            <a:chOff x="3200400" y="3581280"/>
            <a:chExt cx="298440" cy="303480"/>
          </a:xfrm>
        </p:grpSpPr>
        <p:sp>
          <p:nvSpPr>
            <p:cNvPr id="257" name=""/>
            <p:cNvSpPr/>
            <p:nvPr/>
          </p:nvSpPr>
          <p:spPr>
            <a:xfrm>
              <a:off x="3200400" y="35812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00400" y="35812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24320" y="35812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648320" y="3505320"/>
            <a:ext cx="298440" cy="303120"/>
            <a:chOff x="4648320" y="3505320"/>
            <a:chExt cx="298440" cy="303120"/>
          </a:xfrm>
        </p:grpSpPr>
        <p:sp>
          <p:nvSpPr>
            <p:cNvPr id="261" name=""/>
            <p:cNvSpPr/>
            <p:nvPr/>
          </p:nvSpPr>
          <p:spPr>
            <a:xfrm>
              <a:off x="4648320" y="350532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6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4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48320" y="350532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71880" y="350532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6"/>
                  </a:lnTo>
                  <a:lnTo>
                    <a:pt x="206" y="0"/>
                  </a:lnTo>
                  <a:lnTo>
                    <a:pt x="206" y="634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248520" y="3657600"/>
            <a:ext cx="298440" cy="303120"/>
            <a:chOff x="6248520" y="3657600"/>
            <a:chExt cx="298440" cy="303120"/>
          </a:xfrm>
        </p:grpSpPr>
        <p:sp>
          <p:nvSpPr>
            <p:cNvPr id="265" name=""/>
            <p:cNvSpPr/>
            <p:nvPr/>
          </p:nvSpPr>
          <p:spPr>
            <a:xfrm>
              <a:off x="6248520" y="3657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520" y="3657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2080" y="36576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600200" y="5257800"/>
            <a:ext cx="298440" cy="303120"/>
            <a:chOff x="1600200" y="5257800"/>
            <a:chExt cx="298440" cy="303120"/>
          </a:xfrm>
        </p:grpSpPr>
        <p:sp>
          <p:nvSpPr>
            <p:cNvPr id="269" name=""/>
            <p:cNvSpPr/>
            <p:nvPr/>
          </p:nvSpPr>
          <p:spPr>
            <a:xfrm>
              <a:off x="1600200" y="52578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0200" y="52578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24120" y="52578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352680" y="2743200"/>
            <a:ext cx="298440" cy="303120"/>
            <a:chOff x="3352680" y="2743200"/>
            <a:chExt cx="298440" cy="303120"/>
          </a:xfrm>
        </p:grpSpPr>
        <p:sp>
          <p:nvSpPr>
            <p:cNvPr id="273" name=""/>
            <p:cNvSpPr/>
            <p:nvPr/>
          </p:nvSpPr>
          <p:spPr>
            <a:xfrm>
              <a:off x="3352680" y="27432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52680" y="27432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6600" y="27432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86200" y="5181480"/>
            <a:ext cx="298440" cy="303480"/>
            <a:chOff x="3886200" y="5181480"/>
            <a:chExt cx="298440" cy="303480"/>
          </a:xfrm>
        </p:grpSpPr>
        <p:sp>
          <p:nvSpPr>
            <p:cNvPr id="277" name=""/>
            <p:cNvSpPr/>
            <p:nvPr/>
          </p:nvSpPr>
          <p:spPr>
            <a:xfrm>
              <a:off x="3886200" y="5181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6200" y="5181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10120" y="5181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486400" y="4800600"/>
            <a:ext cx="298440" cy="303120"/>
            <a:chOff x="5486400" y="4800600"/>
            <a:chExt cx="298440" cy="303120"/>
          </a:xfrm>
        </p:grpSpPr>
        <p:sp>
          <p:nvSpPr>
            <p:cNvPr id="281" name=""/>
            <p:cNvSpPr/>
            <p:nvPr/>
          </p:nvSpPr>
          <p:spPr>
            <a:xfrm>
              <a:off x="5486400" y="48006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6400" y="48006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10320" y="4800600"/>
              <a:ext cx="7452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048120" y="4572000"/>
            <a:ext cx="298440" cy="303120"/>
            <a:chOff x="3048120" y="4572000"/>
            <a:chExt cx="298440" cy="303120"/>
          </a:xfrm>
        </p:grpSpPr>
        <p:sp>
          <p:nvSpPr>
            <p:cNvPr id="285" name=""/>
            <p:cNvSpPr/>
            <p:nvPr/>
          </p:nvSpPr>
          <p:spPr>
            <a:xfrm>
              <a:off x="3048120" y="4572000"/>
              <a:ext cx="298440" cy="303120"/>
            </a:xfrm>
            <a:custGeom>
              <a:avLst/>
              <a:gdLst/>
              <a:ahLst/>
              <a:rect l="l" t="t" r="r" b="b"/>
              <a:pathLst>
                <a:path w="830" h="843">
                  <a:moveTo>
                    <a:pt x="0" y="842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5"/>
                  </a:lnTo>
                  <a:lnTo>
                    <a:pt x="622" y="842"/>
                  </a:lnTo>
                  <a:lnTo>
                    <a:pt x="0" y="842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48120" y="4572000"/>
              <a:ext cx="298440" cy="74520"/>
            </a:xfrm>
            <a:custGeom>
              <a:avLst/>
              <a:gdLst/>
              <a:ahLst/>
              <a:rect l="l" t="t" r="r" b="b"/>
              <a:pathLst>
                <a:path w="830" h="207">
                  <a:moveTo>
                    <a:pt x="0" y="206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6"/>
                  </a:lnTo>
                  <a:lnTo>
                    <a:pt x="0" y="206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71680" y="4572000"/>
              <a:ext cx="74880" cy="303120"/>
            </a:xfrm>
            <a:custGeom>
              <a:avLst/>
              <a:gdLst/>
              <a:ahLst/>
              <a:rect l="l" t="t" r="r" b="b"/>
              <a:pathLst>
                <a:path w="207" h="843">
                  <a:moveTo>
                    <a:pt x="0" y="842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5"/>
                  </a:lnTo>
                  <a:lnTo>
                    <a:pt x="0" y="842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867280" y="1752480"/>
            <a:ext cx="298440" cy="303480"/>
            <a:chOff x="5867280" y="1752480"/>
            <a:chExt cx="298440" cy="303480"/>
          </a:xfrm>
        </p:grpSpPr>
        <p:sp>
          <p:nvSpPr>
            <p:cNvPr id="289" name=""/>
            <p:cNvSpPr/>
            <p:nvPr/>
          </p:nvSpPr>
          <p:spPr>
            <a:xfrm>
              <a:off x="5867280" y="1752480"/>
              <a:ext cx="298440" cy="303480"/>
            </a:xfrm>
            <a:custGeom>
              <a:avLst/>
              <a:gdLst/>
              <a:ahLst/>
              <a:rect l="l" t="t" r="r" b="b"/>
              <a:pathLst>
                <a:path w="830" h="844">
                  <a:moveTo>
                    <a:pt x="0" y="843"/>
                  </a:moveTo>
                  <a:lnTo>
                    <a:pt x="0" y="207"/>
                  </a:lnTo>
                  <a:lnTo>
                    <a:pt x="207" y="0"/>
                  </a:lnTo>
                  <a:lnTo>
                    <a:pt x="829" y="0"/>
                  </a:lnTo>
                  <a:lnTo>
                    <a:pt x="829" y="636"/>
                  </a:lnTo>
                  <a:lnTo>
                    <a:pt x="622" y="843"/>
                  </a:lnTo>
                  <a:lnTo>
                    <a:pt x="0" y="843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67280" y="1752480"/>
              <a:ext cx="298440" cy="7488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0" y="207"/>
                  </a:moveTo>
                  <a:lnTo>
                    <a:pt x="207" y="0"/>
                  </a:lnTo>
                  <a:lnTo>
                    <a:pt x="829" y="0"/>
                  </a:lnTo>
                  <a:lnTo>
                    <a:pt x="622" y="207"/>
                  </a:lnTo>
                  <a:lnTo>
                    <a:pt x="0" y="207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1200" y="1752480"/>
              <a:ext cx="74520" cy="303480"/>
            </a:xfrm>
            <a:custGeom>
              <a:avLst/>
              <a:gdLst/>
              <a:ahLst/>
              <a:rect l="l" t="t" r="r" b="b"/>
              <a:pathLst>
                <a:path w="207" h="844">
                  <a:moveTo>
                    <a:pt x="0" y="843"/>
                  </a:moveTo>
                  <a:lnTo>
                    <a:pt x="0" y="207"/>
                  </a:lnTo>
                  <a:lnTo>
                    <a:pt x="206" y="0"/>
                  </a:lnTo>
                  <a:lnTo>
                    <a:pt x="206" y="636"/>
                  </a:lnTo>
                  <a:lnTo>
                    <a:pt x="0" y="843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 flipV="1">
            <a:off x="2133720" y="3044880"/>
            <a:ext cx="122076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657600" y="2587680"/>
            <a:ext cx="15238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3657600"/>
            <a:ext cx="10666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425400" y="3048120"/>
            <a:ext cx="82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2054160"/>
            <a:ext cx="6876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873320" y="2819520"/>
            <a:ext cx="4633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349440" y="3962520"/>
            <a:ext cx="313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111200" y="3809880"/>
            <a:ext cx="6922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124080" y="3882600"/>
            <a:ext cx="152640" cy="6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76520" y="3730320"/>
            <a:ext cx="22860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505320" y="3578040"/>
            <a:ext cx="11430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191120" y="4873680"/>
            <a:ext cx="12967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05120" y="4873320"/>
            <a:ext cx="1218960" cy="5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638680" y="3959280"/>
            <a:ext cx="76212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3657600" y="1825560"/>
            <a:ext cx="22096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172200" y="1521000"/>
            <a:ext cx="1143000" cy="2347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4419720"/>
            <a:ext cx="1143000" cy="83808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84880" y="1219320"/>
            <a:ext cx="186228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ga arv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praegus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uhand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r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im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119360" y="4699080"/>
            <a:ext cx="1877760" cy="1920960"/>
            <a:chOff x="7119360" y="4699080"/>
            <a:chExt cx="1877760" cy="1920960"/>
          </a:xfrm>
        </p:grpSpPr>
        <p:sp>
          <p:nvSpPr>
            <p:cNvPr id="317" name=""/>
            <p:cNvSpPr/>
            <p:nvPr/>
          </p:nvSpPr>
          <p:spPr>
            <a:xfrm>
              <a:off x="7232760" y="4699080"/>
              <a:ext cx="1650960" cy="1920960"/>
            </a:xfrm>
            <a:custGeom>
              <a:avLst/>
              <a:gdLst>
                <a:gd name="textAreaLeft" fmla="*/ 360 w 1650960"/>
                <a:gd name="textAreaRight" fmla="*/ 1650600 w 1650960"/>
                <a:gd name="textAreaTop" fmla="*/ 360 h 1920960"/>
                <a:gd name="textAreaBottom" fmla="*/ 1920600 h 1920960"/>
              </a:gdLst>
              <a:ahLst/>
              <a:rect l="textAreaLeft" t="textAreaTop" r="textAreaRight" b="textAreaBottom"/>
              <a:pathLst>
                <a:path w="21600" h="25132">
                  <a:moveTo>
                    <a:pt x="20" y="0"/>
                  </a:moveTo>
                  <a:arcTo wR="20" hR="20" stAng="16200000" swAng="-5400000"/>
                  <a:lnTo>
                    <a:pt x="0" y="25112"/>
                  </a:lnTo>
                  <a:arcTo wR="20" hR="20" stAng="10800000" swAng="-5400000"/>
                  <a:lnTo>
                    <a:pt x="21580" y="25132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19360" y="4699080"/>
              <a:ext cx="1877760" cy="1868040"/>
            </a:xfrm>
            <a:prstGeom prst="roundRect">
              <a:avLst>
                <a:gd name="adj" fmla="val 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Võrgus 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praegus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uhand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kordi rohk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infot 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teenus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-254520"/>
            <a:ext cx="8077320" cy="11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0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veidi inimesi, raadio, TV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981080" y="3352680"/>
            <a:ext cx="455760" cy="532080"/>
            <a:chOff x="1981080" y="3352680"/>
            <a:chExt cx="455760" cy="532080"/>
          </a:xfrm>
        </p:grpSpPr>
        <p:sp>
          <p:nvSpPr>
            <p:cNvPr id="322" name=""/>
            <p:cNvSpPr/>
            <p:nvPr/>
          </p:nvSpPr>
          <p:spPr>
            <a:xfrm>
              <a:off x="1981080" y="3352680"/>
              <a:ext cx="455760" cy="532080"/>
            </a:xfrm>
            <a:custGeom>
              <a:avLst/>
              <a:gdLst/>
              <a:ahLst/>
              <a:rect l="l" t="t" r="r" b="b"/>
              <a:pathLst>
                <a:path w="1267" h="1479">
                  <a:moveTo>
                    <a:pt x="633" y="0"/>
                  </a:moveTo>
                  <a:cubicBezTo>
                    <a:pt x="992" y="0"/>
                    <a:pt x="1266" y="320"/>
                    <a:pt x="1266" y="739"/>
                  </a:cubicBezTo>
                  <a:cubicBezTo>
                    <a:pt x="1266" y="1158"/>
                    <a:pt x="992" y="1478"/>
                    <a:pt x="633" y="1478"/>
                  </a:cubicBezTo>
                  <a:cubicBezTo>
                    <a:pt x="274" y="1478"/>
                    <a:pt x="0" y="1158"/>
                    <a:pt x="0" y="739"/>
                  </a:cubicBezTo>
                  <a:cubicBezTo>
                    <a:pt x="0" y="320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5"/>
                    <a:pt x="136" y="81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5"/>
                    <a:pt x="136" y="81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1"/>
                  </a:cubicBezTo>
                  <a:cubicBezTo>
                    <a:pt x="0" y="35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84400" y="373392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3" y="140"/>
                    <a:pt x="475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572000" y="1371600"/>
            <a:ext cx="455760" cy="531720"/>
            <a:chOff x="4572000" y="1371600"/>
            <a:chExt cx="455760" cy="531720"/>
          </a:xfrm>
        </p:grpSpPr>
        <p:sp>
          <p:nvSpPr>
            <p:cNvPr id="327" name=""/>
            <p:cNvSpPr/>
            <p:nvPr/>
          </p:nvSpPr>
          <p:spPr>
            <a:xfrm>
              <a:off x="4572000" y="1371600"/>
              <a:ext cx="455760" cy="531720"/>
            </a:xfrm>
            <a:custGeom>
              <a:avLst/>
              <a:gdLst/>
              <a:ahLst/>
              <a:rect l="l" t="t" r="r" b="b"/>
              <a:pathLst>
                <a:path w="1267" h="1478">
                  <a:moveTo>
                    <a:pt x="633" y="0"/>
                  </a:moveTo>
                  <a:cubicBezTo>
                    <a:pt x="992" y="0"/>
                    <a:pt x="1266" y="320"/>
                    <a:pt x="1266" y="739"/>
                  </a:cubicBezTo>
                  <a:cubicBezTo>
                    <a:pt x="1266" y="1157"/>
                    <a:pt x="992" y="1477"/>
                    <a:pt x="633" y="1477"/>
                  </a:cubicBezTo>
                  <a:cubicBezTo>
                    <a:pt x="274" y="1477"/>
                    <a:pt x="0" y="1157"/>
                    <a:pt x="0" y="739"/>
                  </a:cubicBezTo>
                  <a:cubicBezTo>
                    <a:pt x="0" y="320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7" y="0"/>
                  </a:moveTo>
                  <a:cubicBezTo>
                    <a:pt x="106" y="0"/>
                    <a:pt x="135" y="34"/>
                    <a:pt x="135" y="80"/>
                  </a:cubicBezTo>
                  <a:cubicBezTo>
                    <a:pt x="135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0"/>
                  </a:cubicBezTo>
                  <a:cubicBezTo>
                    <a:pt x="0" y="34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499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0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0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5320" y="17524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3" y="140"/>
                    <a:pt x="475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2514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0552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adio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76920" y="45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9568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V-kana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865080" y="547200"/>
            <a:ext cx="7769160" cy="303840"/>
            <a:chOff x="865080" y="547200"/>
            <a:chExt cx="7769160" cy="303840"/>
          </a:xfrm>
        </p:grpSpPr>
        <p:sp>
          <p:nvSpPr>
            <p:cNvPr id="341" name=""/>
            <p:cNvSpPr/>
            <p:nvPr/>
          </p:nvSpPr>
          <p:spPr>
            <a:xfrm>
              <a:off x="865080" y="84924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8632800" y="54720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ähendab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Xtensible Markup Languag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on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truktureeritud teksti esitamise formaa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standard ütleb, kuidas teksti struktuuri märgista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llatavalt lihtn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äga levinud ja ei ilmuta kadumise märke: vastupid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 ei ol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eerimiskeel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da intelligentset või automaatset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mevahen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Kasutu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51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1:     inimene  &lt;--&gt;  hulga inimesi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346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81080" y="3352680"/>
            <a:ext cx="455760" cy="532080"/>
            <a:chOff x="1981080" y="3352680"/>
            <a:chExt cx="455760" cy="532080"/>
          </a:xfrm>
        </p:grpSpPr>
        <p:sp>
          <p:nvSpPr>
            <p:cNvPr id="349" name=""/>
            <p:cNvSpPr/>
            <p:nvPr/>
          </p:nvSpPr>
          <p:spPr>
            <a:xfrm>
              <a:off x="1981080" y="3352680"/>
              <a:ext cx="455760" cy="532080"/>
            </a:xfrm>
            <a:custGeom>
              <a:avLst/>
              <a:gdLst/>
              <a:ahLst/>
              <a:rect l="l" t="t" r="r" b="b"/>
              <a:pathLst>
                <a:path w="1267" h="1479">
                  <a:moveTo>
                    <a:pt x="633" y="0"/>
                  </a:moveTo>
                  <a:cubicBezTo>
                    <a:pt x="992" y="0"/>
                    <a:pt x="1266" y="320"/>
                    <a:pt x="1266" y="739"/>
                  </a:cubicBezTo>
                  <a:cubicBezTo>
                    <a:pt x="1266" y="1158"/>
                    <a:pt x="992" y="1478"/>
                    <a:pt x="633" y="1478"/>
                  </a:cubicBezTo>
                  <a:cubicBezTo>
                    <a:pt x="274" y="1478"/>
                    <a:pt x="0" y="1158"/>
                    <a:pt x="0" y="739"/>
                  </a:cubicBezTo>
                  <a:cubicBezTo>
                    <a:pt x="0" y="320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5"/>
                    <a:pt x="136" y="81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5"/>
                    <a:pt x="136" y="81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1"/>
                  </a:cubicBezTo>
                  <a:cubicBezTo>
                    <a:pt x="0" y="35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84400" y="373392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3" y="140"/>
                    <a:pt x="475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572000" y="1371600"/>
            <a:ext cx="455760" cy="531720"/>
            <a:chOff x="4572000" y="1371600"/>
            <a:chExt cx="455760" cy="531720"/>
          </a:xfrm>
        </p:grpSpPr>
        <p:sp>
          <p:nvSpPr>
            <p:cNvPr id="354" name=""/>
            <p:cNvSpPr/>
            <p:nvPr/>
          </p:nvSpPr>
          <p:spPr>
            <a:xfrm>
              <a:off x="4572000" y="1371600"/>
              <a:ext cx="455760" cy="531720"/>
            </a:xfrm>
            <a:custGeom>
              <a:avLst/>
              <a:gdLst/>
              <a:ahLst/>
              <a:rect l="l" t="t" r="r" b="b"/>
              <a:pathLst>
                <a:path w="1267" h="1478">
                  <a:moveTo>
                    <a:pt x="633" y="0"/>
                  </a:moveTo>
                  <a:cubicBezTo>
                    <a:pt x="992" y="0"/>
                    <a:pt x="1266" y="320"/>
                    <a:pt x="1266" y="739"/>
                  </a:cubicBezTo>
                  <a:cubicBezTo>
                    <a:pt x="1266" y="1157"/>
                    <a:pt x="992" y="1477"/>
                    <a:pt x="633" y="1477"/>
                  </a:cubicBezTo>
                  <a:cubicBezTo>
                    <a:pt x="274" y="1477"/>
                    <a:pt x="0" y="1157"/>
                    <a:pt x="0" y="739"/>
                  </a:cubicBezTo>
                  <a:cubicBezTo>
                    <a:pt x="0" y="320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023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7" y="0"/>
                  </a:moveTo>
                  <a:cubicBezTo>
                    <a:pt x="106" y="0"/>
                    <a:pt x="135" y="34"/>
                    <a:pt x="135" y="80"/>
                  </a:cubicBezTo>
                  <a:cubicBezTo>
                    <a:pt x="135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0"/>
                  </a:cubicBezTo>
                  <a:cubicBezTo>
                    <a:pt x="0" y="34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49920" y="152892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4"/>
                    <a:pt x="135" y="80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0"/>
                  </a:cubicBezTo>
                  <a:cubicBezTo>
                    <a:pt x="0" y="34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75320" y="17524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3" y="140"/>
                    <a:pt x="475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876920" y="2362320"/>
            <a:ext cx="455400" cy="531720"/>
            <a:chOff x="4876920" y="2362320"/>
            <a:chExt cx="455400" cy="531720"/>
          </a:xfrm>
        </p:grpSpPr>
        <p:sp>
          <p:nvSpPr>
            <p:cNvPr id="359" name=""/>
            <p:cNvSpPr/>
            <p:nvPr/>
          </p:nvSpPr>
          <p:spPr>
            <a:xfrm>
              <a:off x="4876920" y="2362320"/>
              <a:ext cx="455400" cy="531720"/>
            </a:xfrm>
            <a:custGeom>
              <a:avLst/>
              <a:gdLst/>
              <a:ahLst/>
              <a:rect l="l" t="t" r="r" b="b"/>
              <a:pathLst>
                <a:path w="1266" h="1478">
                  <a:moveTo>
                    <a:pt x="633" y="0"/>
                  </a:moveTo>
                  <a:cubicBezTo>
                    <a:pt x="991" y="0"/>
                    <a:pt x="1265" y="319"/>
                    <a:pt x="1265" y="738"/>
                  </a:cubicBezTo>
                  <a:cubicBezTo>
                    <a:pt x="1265" y="1157"/>
                    <a:pt x="991" y="1477"/>
                    <a:pt x="633" y="1477"/>
                  </a:cubicBezTo>
                  <a:cubicBezTo>
                    <a:pt x="274" y="1477"/>
                    <a:pt x="0" y="1157"/>
                    <a:pt x="0" y="738"/>
                  </a:cubicBezTo>
                  <a:cubicBezTo>
                    <a:pt x="0" y="319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0688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5"/>
                    <a:pt x="136" y="81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1"/>
                  </a:cubicBezTo>
                  <a:cubicBezTo>
                    <a:pt x="0" y="35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53040" y="251928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5"/>
                    <a:pt x="136" y="81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79880" y="2743200"/>
              <a:ext cx="250920" cy="50760"/>
            </a:xfrm>
            <a:custGeom>
              <a:avLst/>
              <a:gdLst/>
              <a:ahLst/>
              <a:rect l="l" t="t" r="r" b="b"/>
              <a:pathLst>
                <a:path w="698" h="142">
                  <a:moveTo>
                    <a:pt x="0" y="0"/>
                  </a:moveTo>
                  <a:cubicBezTo>
                    <a:pt x="223" y="141"/>
                    <a:pt x="474" y="141"/>
                    <a:pt x="697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495680" y="5486400"/>
            <a:ext cx="455760" cy="531720"/>
            <a:chOff x="4495680" y="5486400"/>
            <a:chExt cx="455760" cy="531720"/>
          </a:xfrm>
        </p:grpSpPr>
        <p:sp>
          <p:nvSpPr>
            <p:cNvPr id="364" name=""/>
            <p:cNvSpPr/>
            <p:nvPr/>
          </p:nvSpPr>
          <p:spPr>
            <a:xfrm>
              <a:off x="4495680" y="5486400"/>
              <a:ext cx="455760" cy="531720"/>
            </a:xfrm>
            <a:custGeom>
              <a:avLst/>
              <a:gdLst/>
              <a:ahLst/>
              <a:rect l="l" t="t" r="r" b="b"/>
              <a:pathLst>
                <a:path w="1267" h="1478">
                  <a:moveTo>
                    <a:pt x="633" y="0"/>
                  </a:moveTo>
                  <a:cubicBezTo>
                    <a:pt x="992" y="0"/>
                    <a:pt x="1266" y="320"/>
                    <a:pt x="1266" y="739"/>
                  </a:cubicBezTo>
                  <a:cubicBezTo>
                    <a:pt x="1266" y="1157"/>
                    <a:pt x="992" y="1477"/>
                    <a:pt x="633" y="1477"/>
                  </a:cubicBezTo>
                  <a:cubicBezTo>
                    <a:pt x="274" y="1477"/>
                    <a:pt x="0" y="1157"/>
                    <a:pt x="0" y="739"/>
                  </a:cubicBezTo>
                  <a:cubicBezTo>
                    <a:pt x="0" y="320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2600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4"/>
                    <a:pt x="136" y="80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0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73600" y="564372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4"/>
                    <a:pt x="136" y="80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0"/>
                  </a:cubicBezTo>
                  <a:cubicBezTo>
                    <a:pt x="0" y="34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99000" y="586728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3" y="140"/>
                    <a:pt x="475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105520" y="3429000"/>
            <a:ext cx="455400" cy="531720"/>
            <a:chOff x="5105520" y="3429000"/>
            <a:chExt cx="455400" cy="531720"/>
          </a:xfrm>
        </p:grpSpPr>
        <p:sp>
          <p:nvSpPr>
            <p:cNvPr id="369" name=""/>
            <p:cNvSpPr/>
            <p:nvPr/>
          </p:nvSpPr>
          <p:spPr>
            <a:xfrm>
              <a:off x="5105520" y="3429000"/>
              <a:ext cx="455400" cy="531720"/>
            </a:xfrm>
            <a:custGeom>
              <a:avLst/>
              <a:gdLst/>
              <a:ahLst/>
              <a:rect l="l" t="t" r="r" b="b"/>
              <a:pathLst>
                <a:path w="1266" h="1478">
                  <a:moveTo>
                    <a:pt x="633" y="0"/>
                  </a:moveTo>
                  <a:cubicBezTo>
                    <a:pt x="991" y="0"/>
                    <a:pt x="1265" y="320"/>
                    <a:pt x="1265" y="739"/>
                  </a:cubicBezTo>
                  <a:cubicBezTo>
                    <a:pt x="1265" y="1157"/>
                    <a:pt x="991" y="1477"/>
                    <a:pt x="633" y="1477"/>
                  </a:cubicBezTo>
                  <a:cubicBezTo>
                    <a:pt x="274" y="1477"/>
                    <a:pt x="0" y="1157"/>
                    <a:pt x="0" y="739"/>
                  </a:cubicBezTo>
                  <a:cubicBezTo>
                    <a:pt x="0" y="320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35480" y="358632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4"/>
                    <a:pt x="136" y="80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0"/>
                  </a:cubicBezTo>
                  <a:cubicBezTo>
                    <a:pt x="0" y="34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1640" y="358632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4"/>
                    <a:pt x="136" y="80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0"/>
                  </a:cubicBezTo>
                  <a:cubicBezTo>
                    <a:pt x="0" y="34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08480" y="3809880"/>
              <a:ext cx="250920" cy="50760"/>
            </a:xfrm>
            <a:custGeom>
              <a:avLst/>
              <a:gdLst/>
              <a:ahLst/>
              <a:rect l="l" t="t" r="r" b="b"/>
              <a:pathLst>
                <a:path w="698" h="141">
                  <a:moveTo>
                    <a:pt x="0" y="0"/>
                  </a:moveTo>
                  <a:cubicBezTo>
                    <a:pt x="223" y="140"/>
                    <a:pt x="474" y="140"/>
                    <a:pt x="697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876920" y="4648320"/>
            <a:ext cx="455400" cy="531720"/>
            <a:chOff x="4876920" y="4648320"/>
            <a:chExt cx="455400" cy="531720"/>
          </a:xfrm>
        </p:grpSpPr>
        <p:sp>
          <p:nvSpPr>
            <p:cNvPr id="374" name=""/>
            <p:cNvSpPr/>
            <p:nvPr/>
          </p:nvSpPr>
          <p:spPr>
            <a:xfrm>
              <a:off x="4876920" y="4648320"/>
              <a:ext cx="455400" cy="531720"/>
            </a:xfrm>
            <a:custGeom>
              <a:avLst/>
              <a:gdLst/>
              <a:ahLst/>
              <a:rect l="l" t="t" r="r" b="b"/>
              <a:pathLst>
                <a:path w="1266" h="1478">
                  <a:moveTo>
                    <a:pt x="633" y="0"/>
                  </a:moveTo>
                  <a:cubicBezTo>
                    <a:pt x="991" y="0"/>
                    <a:pt x="1265" y="319"/>
                    <a:pt x="1265" y="738"/>
                  </a:cubicBezTo>
                  <a:cubicBezTo>
                    <a:pt x="1265" y="1157"/>
                    <a:pt x="991" y="1477"/>
                    <a:pt x="633" y="1477"/>
                  </a:cubicBezTo>
                  <a:cubicBezTo>
                    <a:pt x="274" y="1477"/>
                    <a:pt x="0" y="1157"/>
                    <a:pt x="0" y="738"/>
                  </a:cubicBezTo>
                  <a:cubicBezTo>
                    <a:pt x="0" y="319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0688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5"/>
                    <a:pt x="136" y="81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1"/>
                  </a:cubicBezTo>
                  <a:cubicBezTo>
                    <a:pt x="0" y="35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53040" y="480528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5"/>
                    <a:pt x="136" y="81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79880" y="5029200"/>
              <a:ext cx="250920" cy="50760"/>
            </a:xfrm>
            <a:custGeom>
              <a:avLst/>
              <a:gdLst/>
              <a:ahLst/>
              <a:rect l="l" t="t" r="r" b="b"/>
              <a:pathLst>
                <a:path w="698" h="142">
                  <a:moveTo>
                    <a:pt x="0" y="0"/>
                  </a:moveTo>
                  <a:cubicBezTo>
                    <a:pt x="223" y="141"/>
                    <a:pt x="474" y="141"/>
                    <a:pt x="697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437200" y="2084400"/>
            <a:ext cx="943560" cy="399600"/>
            <a:chOff x="2437200" y="2084400"/>
            <a:chExt cx="943560" cy="399600"/>
          </a:xfrm>
        </p:grpSpPr>
        <p:sp>
          <p:nvSpPr>
            <p:cNvPr id="384" name=""/>
            <p:cNvSpPr/>
            <p:nvPr/>
          </p:nvSpPr>
          <p:spPr>
            <a:xfrm>
              <a:off x="2438280" y="2084400"/>
              <a:ext cx="941400" cy="396720"/>
            </a:xfrm>
            <a:prstGeom prst="roundRect">
              <a:avLst>
                <a:gd name="adj" fmla="val 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37200" y="2084400"/>
              <a:ext cx="943560" cy="399600"/>
            </a:xfrm>
            <a:prstGeom prst="roundRect">
              <a:avLst>
                <a:gd name="adj" fmla="val 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Arial"/>
                </a:rPr>
                <a:t>E-m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93160" y="107784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-35136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2:    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imene 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65080" y="547200"/>
            <a:ext cx="7769160" cy="303840"/>
            <a:chOff x="865080" y="547200"/>
            <a:chExt cx="7769160" cy="303840"/>
          </a:xfrm>
        </p:grpSpPr>
        <p:sp>
          <p:nvSpPr>
            <p:cNvPr id="391" name=""/>
            <p:cNvSpPr/>
            <p:nvPr/>
          </p:nvSpPr>
          <p:spPr>
            <a:xfrm>
              <a:off x="865080" y="84924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8632800" y="54720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981080" y="3352680"/>
            <a:ext cx="455760" cy="532080"/>
            <a:chOff x="1981080" y="3352680"/>
            <a:chExt cx="455760" cy="532080"/>
          </a:xfrm>
        </p:grpSpPr>
        <p:sp>
          <p:nvSpPr>
            <p:cNvPr id="394" name=""/>
            <p:cNvSpPr/>
            <p:nvPr/>
          </p:nvSpPr>
          <p:spPr>
            <a:xfrm>
              <a:off x="1981080" y="3352680"/>
              <a:ext cx="455760" cy="532080"/>
            </a:xfrm>
            <a:custGeom>
              <a:avLst/>
              <a:gdLst/>
              <a:ahLst/>
              <a:rect l="l" t="t" r="r" b="b"/>
              <a:pathLst>
                <a:path w="1267" h="1479">
                  <a:moveTo>
                    <a:pt x="633" y="0"/>
                  </a:moveTo>
                  <a:cubicBezTo>
                    <a:pt x="992" y="0"/>
                    <a:pt x="1266" y="320"/>
                    <a:pt x="1266" y="739"/>
                  </a:cubicBezTo>
                  <a:cubicBezTo>
                    <a:pt x="1266" y="1158"/>
                    <a:pt x="992" y="1478"/>
                    <a:pt x="633" y="1478"/>
                  </a:cubicBezTo>
                  <a:cubicBezTo>
                    <a:pt x="274" y="1478"/>
                    <a:pt x="0" y="1158"/>
                    <a:pt x="0" y="739"/>
                  </a:cubicBezTo>
                  <a:cubicBezTo>
                    <a:pt x="0" y="320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114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5"/>
                    <a:pt x="136" y="81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59000" y="351000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5"/>
                    <a:pt x="136" y="81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1"/>
                  </a:cubicBezTo>
                  <a:cubicBezTo>
                    <a:pt x="0" y="35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84400" y="373392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1">
                  <a:moveTo>
                    <a:pt x="0" y="0"/>
                  </a:moveTo>
                  <a:cubicBezTo>
                    <a:pt x="223" y="140"/>
                    <a:pt x="475" y="140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436480" y="2084400"/>
            <a:ext cx="903960" cy="399600"/>
            <a:chOff x="2436480" y="2084400"/>
            <a:chExt cx="903960" cy="399600"/>
          </a:xfrm>
        </p:grpSpPr>
        <p:sp>
          <p:nvSpPr>
            <p:cNvPr id="404" name=""/>
            <p:cNvSpPr/>
            <p:nvPr/>
          </p:nvSpPr>
          <p:spPr>
            <a:xfrm>
              <a:off x="2438280" y="2084400"/>
              <a:ext cx="900360" cy="396720"/>
            </a:xfrm>
            <a:prstGeom prst="roundRect">
              <a:avLst>
                <a:gd name="adj" fmla="val 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36480" y="2084400"/>
              <a:ext cx="903960" cy="399600"/>
            </a:xfrm>
            <a:prstGeom prst="roundRect">
              <a:avLst>
                <a:gd name="adj" fmla="val 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Arial"/>
                </a:rPr>
                <a:t>WW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876920" y="44956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166240" y="1162080"/>
            <a:ext cx="350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masinad &lt;--&gt;  hulga masina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416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 flipV="1">
            <a:off x="2438280" y="1901520"/>
            <a:ext cx="2057400" cy="153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590920" y="2739960"/>
            <a:ext cx="220968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66880" y="37339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3886200"/>
            <a:ext cx="21333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14600" y="4038480"/>
            <a:ext cx="1828800" cy="137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208440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XML + Semantic 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4876920" y="44956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385920" cy="676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7086600" y="1143000"/>
            <a:ext cx="838080" cy="4952880"/>
          </a:xfrm>
          <a:custGeom>
            <a:avLst/>
            <a:gdLst/>
            <a:ahLst/>
            <a:rect l="l" t="t" r="r" b="b"/>
            <a:pathLst>
              <a:path w="2329" h="13759">
                <a:moveTo>
                  <a:pt x="0" y="0"/>
                </a:moveTo>
                <a:cubicBezTo>
                  <a:pt x="582" y="0"/>
                  <a:pt x="1164" y="573"/>
                  <a:pt x="1164" y="1146"/>
                </a:cubicBezTo>
                <a:lnTo>
                  <a:pt x="1164" y="5732"/>
                </a:lnTo>
                <a:cubicBezTo>
                  <a:pt x="1164" y="6306"/>
                  <a:pt x="1746" y="6879"/>
                  <a:pt x="2328" y="6879"/>
                </a:cubicBezTo>
                <a:cubicBezTo>
                  <a:pt x="1746" y="6879"/>
                  <a:pt x="1164" y="7452"/>
                  <a:pt x="1164" y="8026"/>
                </a:cubicBezTo>
                <a:lnTo>
                  <a:pt x="1164" y="12612"/>
                </a:lnTo>
                <a:cubicBezTo>
                  <a:pt x="1164" y="13185"/>
                  <a:pt x="582" y="13758"/>
                  <a:pt x="0" y="137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80200" y="1162080"/>
            <a:ext cx="351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859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3:     inimene ?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435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 flipV="1">
            <a:off x="1905120" y="2739960"/>
            <a:ext cx="228600" cy="92088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38680" y="1219320"/>
            <a:ext cx="152424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438280" y="1139760"/>
            <a:ext cx="2514600" cy="84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2209680"/>
            <a:ext cx="3352680" cy="1067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7315200" y="21337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1981080" y="1905120"/>
            <a:ext cx="385920" cy="6760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5486400" y="4724280"/>
            <a:ext cx="385920" cy="6764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6"/>
          <a:stretch/>
        </p:blipFill>
        <p:spPr>
          <a:xfrm>
            <a:off x="6095880" y="32767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1600200" y="3733920"/>
            <a:ext cx="455760" cy="531720"/>
            <a:chOff x="1600200" y="3733920"/>
            <a:chExt cx="455760" cy="531720"/>
          </a:xfrm>
        </p:grpSpPr>
        <p:sp>
          <p:nvSpPr>
            <p:cNvPr id="448" name=""/>
            <p:cNvSpPr/>
            <p:nvPr/>
          </p:nvSpPr>
          <p:spPr>
            <a:xfrm>
              <a:off x="1600200" y="3733920"/>
              <a:ext cx="455760" cy="531720"/>
            </a:xfrm>
            <a:custGeom>
              <a:avLst/>
              <a:gdLst/>
              <a:ahLst/>
              <a:rect l="l" t="t" r="r" b="b"/>
              <a:pathLst>
                <a:path w="1267" h="1478">
                  <a:moveTo>
                    <a:pt x="633" y="0"/>
                  </a:moveTo>
                  <a:cubicBezTo>
                    <a:pt x="992" y="0"/>
                    <a:pt x="1266" y="319"/>
                    <a:pt x="1266" y="738"/>
                  </a:cubicBezTo>
                  <a:cubicBezTo>
                    <a:pt x="1266" y="1157"/>
                    <a:pt x="992" y="1477"/>
                    <a:pt x="633" y="1477"/>
                  </a:cubicBezTo>
                  <a:cubicBezTo>
                    <a:pt x="274" y="1477"/>
                    <a:pt x="0" y="1157"/>
                    <a:pt x="0" y="738"/>
                  </a:cubicBezTo>
                  <a:cubicBezTo>
                    <a:pt x="0" y="319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305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7" y="0"/>
                  </a:moveTo>
                  <a:cubicBezTo>
                    <a:pt x="106" y="0"/>
                    <a:pt x="135" y="35"/>
                    <a:pt x="135" y="81"/>
                  </a:cubicBezTo>
                  <a:cubicBezTo>
                    <a:pt x="135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1"/>
                  </a:cubicBezTo>
                  <a:cubicBezTo>
                    <a:pt x="0" y="35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78120" y="3890880"/>
              <a:ext cx="48960" cy="5868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66" y="0"/>
                  </a:moveTo>
                  <a:cubicBezTo>
                    <a:pt x="105" y="0"/>
                    <a:pt x="135" y="35"/>
                    <a:pt x="135" y="81"/>
                  </a:cubicBezTo>
                  <a:cubicBezTo>
                    <a:pt x="135" y="126"/>
                    <a:pt x="105" y="161"/>
                    <a:pt x="66" y="161"/>
                  </a:cubicBezTo>
                  <a:cubicBezTo>
                    <a:pt x="27" y="161"/>
                    <a:pt x="0" y="126"/>
                    <a:pt x="0" y="81"/>
                  </a:cubicBezTo>
                  <a:cubicBezTo>
                    <a:pt x="0" y="35"/>
                    <a:pt x="27" y="0"/>
                    <a:pt x="66" y="0"/>
                  </a:cubicBezTo>
                  <a:lnTo>
                    <a:pt x="6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03520" y="4114800"/>
              <a:ext cx="252360" cy="50760"/>
            </a:xfrm>
            <a:custGeom>
              <a:avLst/>
              <a:gdLst/>
              <a:ahLst/>
              <a:rect l="l" t="t" r="r" b="b"/>
              <a:pathLst>
                <a:path w="699" h="142">
                  <a:moveTo>
                    <a:pt x="0" y="0"/>
                  </a:moveTo>
                  <a:cubicBezTo>
                    <a:pt x="223" y="141"/>
                    <a:pt x="475" y="141"/>
                    <a:pt x="69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2057400" y="3730320"/>
            <a:ext cx="3886200" cy="82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6549840" y="2895480"/>
            <a:ext cx="92052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7464600" y="3048120"/>
            <a:ext cx="158400" cy="914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6016680" y="4419720"/>
            <a:ext cx="12254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4120" y="1676520"/>
            <a:ext cx="8380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Internet 4:   Skynet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460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7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6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bleem:  väga raske, pea võimatu on teha programmi, mis loeks teisest serverist HTML-lehekülgi ja suudaks sellest HTML-st meile vajalikku datat leida ja töödelda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ee: teeme võrgulehekülgi XML-is, nii et programm teises arvutis suudaks nende sisu töödelda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466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05120" y="3962520"/>
            <a:ext cx="455400" cy="531720"/>
            <a:chOff x="1905120" y="3962520"/>
            <a:chExt cx="455400" cy="531720"/>
          </a:xfrm>
        </p:grpSpPr>
        <p:sp>
          <p:nvSpPr>
            <p:cNvPr id="469" name=""/>
            <p:cNvSpPr/>
            <p:nvPr/>
          </p:nvSpPr>
          <p:spPr>
            <a:xfrm>
              <a:off x="1905120" y="3962520"/>
              <a:ext cx="455400" cy="531720"/>
            </a:xfrm>
            <a:custGeom>
              <a:avLst/>
              <a:gdLst/>
              <a:ahLst/>
              <a:rect l="l" t="t" r="r" b="b"/>
              <a:pathLst>
                <a:path w="1266" h="1478">
                  <a:moveTo>
                    <a:pt x="633" y="0"/>
                  </a:moveTo>
                  <a:cubicBezTo>
                    <a:pt x="991" y="0"/>
                    <a:pt x="1265" y="319"/>
                    <a:pt x="1265" y="738"/>
                  </a:cubicBezTo>
                  <a:cubicBezTo>
                    <a:pt x="1265" y="1157"/>
                    <a:pt x="991" y="1477"/>
                    <a:pt x="633" y="1477"/>
                  </a:cubicBezTo>
                  <a:cubicBezTo>
                    <a:pt x="274" y="1477"/>
                    <a:pt x="0" y="1157"/>
                    <a:pt x="0" y="738"/>
                  </a:cubicBezTo>
                  <a:cubicBezTo>
                    <a:pt x="0" y="319"/>
                    <a:pt x="274" y="0"/>
                    <a:pt x="633" y="0"/>
                  </a:cubicBezTo>
                  <a:lnTo>
                    <a:pt x="63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3508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7" y="0"/>
                  </a:moveTo>
                  <a:cubicBezTo>
                    <a:pt x="106" y="0"/>
                    <a:pt x="136" y="35"/>
                    <a:pt x="136" y="81"/>
                  </a:cubicBezTo>
                  <a:cubicBezTo>
                    <a:pt x="136" y="126"/>
                    <a:pt x="106" y="161"/>
                    <a:pt x="67" y="161"/>
                  </a:cubicBezTo>
                  <a:cubicBezTo>
                    <a:pt x="28" y="161"/>
                    <a:pt x="0" y="126"/>
                    <a:pt x="0" y="81"/>
                  </a:cubicBezTo>
                  <a:cubicBezTo>
                    <a:pt x="0" y="35"/>
                    <a:pt x="28" y="0"/>
                    <a:pt x="67" y="0"/>
                  </a:cubicBez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81240" y="4119480"/>
              <a:ext cx="49320" cy="586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68" y="0"/>
                  </a:moveTo>
                  <a:cubicBezTo>
                    <a:pt x="107" y="0"/>
                    <a:pt x="136" y="35"/>
                    <a:pt x="136" y="81"/>
                  </a:cubicBezTo>
                  <a:cubicBezTo>
                    <a:pt x="136" y="126"/>
                    <a:pt x="107" y="161"/>
                    <a:pt x="68" y="161"/>
                  </a:cubicBezTo>
                  <a:cubicBezTo>
                    <a:pt x="29" y="161"/>
                    <a:pt x="0" y="126"/>
                    <a:pt x="0" y="81"/>
                  </a:cubicBezTo>
                  <a:cubicBezTo>
                    <a:pt x="0" y="35"/>
                    <a:pt x="29" y="0"/>
                    <a:pt x="68" y="0"/>
                  </a:cubicBezTo>
                  <a:lnTo>
                    <a:pt x="6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08080" y="4343400"/>
              <a:ext cx="250920" cy="50760"/>
            </a:xfrm>
            <a:custGeom>
              <a:avLst/>
              <a:gdLst/>
              <a:ahLst/>
              <a:rect l="l" t="t" r="r" b="b"/>
              <a:pathLst>
                <a:path w="698" h="142">
                  <a:moveTo>
                    <a:pt x="0" y="0"/>
                  </a:moveTo>
                  <a:cubicBezTo>
                    <a:pt x="223" y="141"/>
                    <a:pt x="474" y="141"/>
                    <a:pt x="697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6477120" y="2895480"/>
            <a:ext cx="385560" cy="6764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400800" y="4648320"/>
            <a:ext cx="385920" cy="676080"/>
          </a:xfrm>
          <a:prstGeom prst="rect">
            <a:avLst/>
          </a:prstGeom>
          <a:ln w="0">
            <a:noFill/>
          </a:ln>
        </p:spPr>
      </p:pic>
      <p:grpSp>
        <p:nvGrpSpPr>
          <p:cNvPr id="476" name=""/>
          <p:cNvGrpSpPr/>
          <p:nvPr/>
        </p:nvGrpSpPr>
        <p:grpSpPr>
          <a:xfrm>
            <a:off x="6019920" y="5638680"/>
            <a:ext cx="1555560" cy="338040"/>
            <a:chOff x="6019920" y="5638680"/>
            <a:chExt cx="1555560" cy="338040"/>
          </a:xfrm>
        </p:grpSpPr>
        <p:sp>
          <p:nvSpPr>
            <p:cNvPr id="477" name=""/>
            <p:cNvSpPr/>
            <p:nvPr/>
          </p:nvSpPr>
          <p:spPr>
            <a:xfrm>
              <a:off x="6019920" y="5638680"/>
              <a:ext cx="155556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20280" y="5638680"/>
              <a:ext cx="155448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aasteenu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733920" y="4648320"/>
            <a:ext cx="1749240" cy="338040"/>
            <a:chOff x="3733920" y="4648320"/>
            <a:chExt cx="1749240" cy="338040"/>
          </a:xfrm>
        </p:grpSpPr>
        <p:sp>
          <p:nvSpPr>
            <p:cNvPr id="480" name=""/>
            <p:cNvSpPr/>
            <p:nvPr/>
          </p:nvSpPr>
          <p:spPr>
            <a:xfrm>
              <a:off x="3733920" y="4648320"/>
              <a:ext cx="174924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36080" y="4648320"/>
              <a:ext cx="17449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Kuvamis-teen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2514600" y="4114800"/>
            <a:ext cx="1752480" cy="1440"/>
          </a:xfrm>
          <a:prstGeom prst="line">
            <a:avLst/>
          </a:prstGeom>
          <a:ln w="2556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52880" y="3273480"/>
            <a:ext cx="1447920" cy="768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05520" y="4191120"/>
            <a:ext cx="11430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43400" y="3200400"/>
            <a:ext cx="88740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38680" y="4114800"/>
            <a:ext cx="84636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3657600"/>
            <a:ext cx="90000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Bitstream Vera Sans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Võrguteenused ja .NE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84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allmer: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".NET is at the core of what we're trying to do as a company.“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NET: võrguteenuste loomise platvor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ogrammeerimisplatvorm (C#, CLR, …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-rakendused XML-keeltele SOAP,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SDL, UDD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rveri tugi rakendustel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AP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-RPC edasiarendus: XML-suhtluse keel üle http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OETUS: MSFT, IBM, SUN, …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491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Rakendusi ...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940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lligentne otsing võrgu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usiness-to-business lahendused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gimüüjad panevad võrku oma hinnakirja, jaemüüjad otsivad sobiva hinna ja tingimustega kaup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rinevate infosüsteemide ühendamine (kaks panka ühinevad, data vaja kokku viia, pangas palju väikesi süsteem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oosolekute planeerimine: leida ühised aj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igipääsuõiguste süsteem: kes kuhu kataloogi/infole ligi pääse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telligentne assistent: otsib ise mind huvitavaid uudiseid, hindu jne, teatab, kui midagi lei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496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rotseduraalne vs deklaratiiv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79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rotseduraalne info esitus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programmi sisse kodeeritu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klaratiivne info esitus: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 on eraldi reeglitena (failis), mida algoritm reegleid kasutav algoritm rakendab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501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Mis puudub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7848720" cy="931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Üks programm peab teise programmi antud XML-ist SISULISELT aru saam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88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Õllepartiide otsimise server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A annab infot: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B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              &lt;mark&gt;Guinness&lt;/mark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&lt;hind&gt;100&lt;/hind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beer&gt;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ulgimüüja C annab infot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ame&gt;Guinness&lt;/na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price&gt;100&lt;/pric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por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506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üüprakend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eil on mingid andmed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eid on vaja faili kirja panna ja hiljem arvutiga töödelda ja teistele  edasi saat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gu meil info mingi õllesordi koht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56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928880" y="2371680"/>
            <a:ext cx="4435560" cy="386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11520" y="2905200"/>
            <a:ext cx="2308320" cy="660240"/>
            <a:chOff x="2711520" y="2905200"/>
            <a:chExt cx="2308320" cy="660240"/>
          </a:xfrm>
        </p:grpSpPr>
        <p:sp>
          <p:nvSpPr>
            <p:cNvPr id="60" name=""/>
            <p:cNvSpPr/>
            <p:nvPr/>
          </p:nvSpPr>
          <p:spPr>
            <a:xfrm>
              <a:off x="2711520" y="2905200"/>
              <a:ext cx="2308320" cy="660240"/>
            </a:xfrm>
            <a:prstGeom prst="roundRect">
              <a:avLst>
                <a:gd name="adj" fmla="val 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48680" y="2905200"/>
              <a:ext cx="2033640" cy="39888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eh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tume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419200" y="4871880"/>
            <a:ext cx="3381480" cy="636840"/>
            <a:chOff x="2419200" y="4871880"/>
            <a:chExt cx="3381480" cy="636840"/>
          </a:xfrm>
        </p:grpSpPr>
        <p:sp>
          <p:nvSpPr>
            <p:cNvPr id="63" name=""/>
            <p:cNvSpPr/>
            <p:nvPr/>
          </p:nvSpPr>
          <p:spPr>
            <a:xfrm>
              <a:off x="2419200" y="4871880"/>
              <a:ext cx="3381480" cy="636840"/>
            </a:xfrm>
            <a:prstGeom prst="roundRect">
              <a:avLst>
                <a:gd name="adj" fmla="val 25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89000" y="4871880"/>
              <a:ext cx="2441520" cy="573840"/>
            </a:xfrm>
            <a:prstGeom prst="roundRect">
              <a:avLst>
                <a:gd name="adj" fmla="val 2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Järsumaitse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971960" y="4213080"/>
            <a:ext cx="1305000" cy="586080"/>
            <a:chOff x="4971960" y="4213080"/>
            <a:chExt cx="1305000" cy="586080"/>
          </a:xfrm>
        </p:grpSpPr>
        <p:sp>
          <p:nvSpPr>
            <p:cNvPr id="66" name=""/>
            <p:cNvSpPr/>
            <p:nvPr/>
          </p:nvSpPr>
          <p:spPr>
            <a:xfrm>
              <a:off x="4971960" y="4213080"/>
              <a:ext cx="1305000" cy="58608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90680" y="4213080"/>
              <a:ext cx="126756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5.4 kraa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033880" y="3505320"/>
            <a:ext cx="1073160" cy="585720"/>
            <a:chOff x="5033880" y="3505320"/>
            <a:chExt cx="1073160" cy="585720"/>
          </a:xfrm>
        </p:grpSpPr>
        <p:sp>
          <p:nvSpPr>
            <p:cNvPr id="69" name=""/>
            <p:cNvSpPr/>
            <p:nvPr/>
          </p:nvSpPr>
          <p:spPr>
            <a:xfrm>
              <a:off x="5033880" y="3505320"/>
              <a:ext cx="1073160" cy="585720"/>
            </a:xfrm>
            <a:prstGeom prst="roundRect">
              <a:avLst>
                <a:gd name="adj" fmla="val 2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39360" y="3505320"/>
              <a:ext cx="862200" cy="398880"/>
            </a:xfrm>
            <a:prstGeom prst="roundRect">
              <a:avLst>
                <a:gd name="adj" fmla="val 2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227480" y="3835440"/>
            <a:ext cx="743040" cy="561960"/>
            <a:chOff x="4227480" y="3835440"/>
            <a:chExt cx="743040" cy="561960"/>
          </a:xfrm>
        </p:grpSpPr>
        <p:sp>
          <p:nvSpPr>
            <p:cNvPr id="72" name=""/>
            <p:cNvSpPr/>
            <p:nvPr/>
          </p:nvSpPr>
          <p:spPr>
            <a:xfrm>
              <a:off x="4227480" y="3835440"/>
              <a:ext cx="743040" cy="561960"/>
            </a:xfrm>
            <a:prstGeom prst="roundRect">
              <a:avLst>
                <a:gd name="adj" fmla="val 28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0160" y="3835440"/>
              <a:ext cx="697320" cy="329760"/>
            </a:xfrm>
            <a:prstGeom prst="roundRect">
              <a:avLst>
                <a:gd name="adj" fmla="val 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8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030400" y="3811680"/>
            <a:ext cx="1927080" cy="463320"/>
            <a:chOff x="2030400" y="3811680"/>
            <a:chExt cx="1927080" cy="463320"/>
          </a:xfrm>
        </p:grpSpPr>
        <p:sp>
          <p:nvSpPr>
            <p:cNvPr id="75" name=""/>
            <p:cNvSpPr/>
            <p:nvPr/>
          </p:nvSpPr>
          <p:spPr>
            <a:xfrm>
              <a:off x="2030400" y="3811680"/>
              <a:ext cx="1927080" cy="46332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13200" y="3811680"/>
              <a:ext cx="1761120" cy="32976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Bitstream Vera Sans"/>
                </a:rPr>
                <a:t>Nuia õllevabri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Erinevad keele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9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ame teadma, et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EER            =        ÕLU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RTER   on ka    B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i ole lootust teha “ette valmis” kõiki keel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n olemas alamkeeled (üldine toodete keel, õllede keel Eestis, Tshehhis, Hiinas, õllede keel Tartu Õllevabrikus ja Sakus, ...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eli on vaja omavahel tõlki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õlkimiseks on vaja reegleid ja elementaarset arusaami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914400" y="302760"/>
            <a:ext cx="7769160" cy="303840"/>
            <a:chOff x="914400" y="302760"/>
            <a:chExt cx="7769160" cy="303840"/>
          </a:xfrm>
        </p:grpSpPr>
        <p:sp>
          <p:nvSpPr>
            <p:cNvPr id="511" name=""/>
            <p:cNvSpPr/>
            <p:nvPr/>
          </p:nvSpPr>
          <p:spPr>
            <a:xfrm>
              <a:off x="914400" y="604800"/>
              <a:ext cx="7767720" cy="18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682120" y="302760"/>
              <a:ext cx="1440" cy="30348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-697320"/>
            <a:ext cx="7772400" cy="15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Sama probleem andmebaasiga isegi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 ÜHESAINSAS MASINA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64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QL keeles on meil tabelid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  Nim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D      Am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------------------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-------------------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   Jaan Tamm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        Degustaato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   Ants Rau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        Laome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   Jaan Tamm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        Müügime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         Juhataja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eglid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888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8880" indent="-3016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D esimeses tabelis ei tohi kordud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58880" indent="-30168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ID teises tabelis peab olema esimeses tabeli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aja: nimede seosed, reeglid struktuuril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901800" y="425520"/>
            <a:ext cx="7769160" cy="303120"/>
            <a:chOff x="901800" y="425520"/>
            <a:chExt cx="7769160" cy="303120"/>
          </a:xfrm>
        </p:grpSpPr>
        <p:sp>
          <p:nvSpPr>
            <p:cNvPr id="516" name=""/>
            <p:cNvSpPr/>
            <p:nvPr/>
          </p:nvSpPr>
          <p:spPr>
            <a:xfrm>
              <a:off x="901800" y="727200"/>
              <a:ext cx="776736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8669160" y="425520"/>
              <a:ext cx="180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Kuidas seda faili kirja panna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5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1: inimkeelsen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uia tumeda tootja on Nuia õllevabrik. Porteri tüüpi õlu. Kangus 5.4 kraadi. Järsumaitseline. Hind 8.90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Oleks hea variant, aga arvutiga praktiliselt lootusetu töödeld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Variant 2: CSV (comma separated value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Nuia tume”, “Nuia õllevabrik”, Porter, 8.90, 5.4, Järsumaitseline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äris hea ja väga levinud variant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ailis ei saa öelda, mis tähestikus (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õ, ä jne kodeering)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Vaja on eraldi öelda, mida väljad tähendavad (selleks saab kasutada päiserida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õhiprobleem: järgmisel slaidi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80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CSV ja muude tabelkujude põhiprobl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9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CSV ja muud tabeliformaadid esitavad infot tabelina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e ei sobi hästi, kui tabeli ruutudes peaks olema alamtabeli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Näiteks, kui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ahaksime sisestada aadressi: riik, linn/küla, tänav, maja/kr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inna juures on hinnaühik (EEK, EUR, jn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Jn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QL andmebaasides kasutatakse siis abitabeleid ja neid siduvaid kunstlikke ID-numbreid, mis pole seotud algse dataga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85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782720" y="1623960"/>
            <a:ext cx="5178600" cy="2125800"/>
          </a:xfrm>
          <a:prstGeom prst="roundRect">
            <a:avLst>
              <a:gd name="adj" fmla="val 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54120" y="1660680"/>
            <a:ext cx="1800" cy="20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7032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71840" y="1673280"/>
            <a:ext cx="180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19880" y="1660680"/>
            <a:ext cx="1440" cy="20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08280" y="2050920"/>
            <a:ext cx="511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0880" y="24908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2040" y="3029040"/>
            <a:ext cx="51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viis eelmist infot kirja pann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XML-s “pakitakse” infoväljad kirjeldavate nn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tag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-de vahel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Nuia õllevabrik&lt;/tootja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saab töödelda arvutiga nagu CSV-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luss: inimesele kohmakas lugeda, kuid siiski üheselt arusaadav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-3398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iinus: tekst on pikem,  kui CSV puhul.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9800" indent="-28260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Sellest saab üle: kokkusurumine (zip, gz, jms pakkijad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98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XML tagid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52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103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111400" y="1855800"/>
            <a:ext cx="5178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9800" indent="-2826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&lt;tootja&gt;Nuia õllevabrik&lt;/tootja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685960" y="2269800"/>
            <a:ext cx="1800" cy="166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79720" y="4041720"/>
            <a:ext cx="1005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lgu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96920" y="4114800"/>
            <a:ext cx="9334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õpu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4440" y="2293560"/>
            <a:ext cx="1440" cy="166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275000" y="2282760"/>
            <a:ext cx="1800" cy="16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8880" y="4091040"/>
            <a:ext cx="5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93800" y="4948200"/>
            <a:ext cx="5886360" cy="341280"/>
          </a:xfrm>
          <a:custGeom>
            <a:avLst/>
            <a:gdLst/>
            <a:ahLst/>
            <a:rect l="l" t="t" r="r" b="b"/>
            <a:pathLst>
              <a:path w="16353" h="950">
                <a:moveTo>
                  <a:pt x="16352" y="0"/>
                </a:moveTo>
                <a:cubicBezTo>
                  <a:pt x="16352" y="237"/>
                  <a:pt x="15671" y="474"/>
                  <a:pt x="14990" y="474"/>
                </a:cubicBezTo>
                <a:lnTo>
                  <a:pt x="9539" y="474"/>
                </a:lnTo>
                <a:cubicBezTo>
                  <a:pt x="8858" y="474"/>
                  <a:pt x="8176" y="711"/>
                  <a:pt x="8176" y="949"/>
                </a:cubicBezTo>
                <a:cubicBezTo>
                  <a:pt x="8176" y="711"/>
                  <a:pt x="7495" y="474"/>
                  <a:pt x="6814" y="474"/>
                </a:cubicBezTo>
                <a:lnTo>
                  <a:pt x="1363" y="474"/>
                </a:lnTo>
                <a:cubicBezTo>
                  <a:pt x="682" y="474"/>
                  <a:pt x="0" y="237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43960" y="5483160"/>
            <a:ext cx="947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Tagide põhieeli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848720" cy="57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Elemendid võivad sisaldada teisi element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tume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ootja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nimi&gt;Nuia õllevabrik&lt;/nimi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aadres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üla&gt;Nuia&lt;/küla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änav&gt;Tallinna mnt&lt;/tänav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ja&gt;2&lt;/maja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aadres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/tootja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tyyp&gt;Porter&lt;/tyyp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hind&gt;8.90&lt;/tyyp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kangus&gt;5.4&lt;/kangus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maitse&gt;Järsumaitseline&lt;/maits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&lt;olu/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8080" y="379440"/>
            <a:ext cx="7767720" cy="303120"/>
            <a:chOff x="838080" y="379440"/>
            <a:chExt cx="7767720" cy="303120"/>
          </a:xfrm>
        </p:grpSpPr>
        <p:sp>
          <p:nvSpPr>
            <p:cNvPr id="117" name=""/>
            <p:cNvSpPr/>
            <p:nvPr/>
          </p:nvSpPr>
          <p:spPr>
            <a:xfrm>
              <a:off x="838080" y="681120"/>
              <a:ext cx="776628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604360" y="379440"/>
              <a:ext cx="1440" cy="30312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685800" y="228600"/>
            <a:ext cx="7772400" cy="685800"/>
            <a:chOff x="685800" y="228600"/>
            <a:chExt cx="7772400" cy="685800"/>
          </a:xfrm>
        </p:grpSpPr>
        <p:sp>
          <p:nvSpPr>
            <p:cNvPr id="120" name=""/>
            <p:cNvSpPr/>
            <p:nvPr/>
          </p:nvSpPr>
          <p:spPr>
            <a:xfrm>
              <a:off x="685800" y="228600"/>
              <a:ext cx="777240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800" y="288000"/>
              <a:ext cx="7772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80"/>
                  </a:solidFill>
                  <a:latin typeface="Bitstream Vera Sans"/>
                </a:rPr>
                <a:t>Tabelandmed XML-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80880" y="1523880"/>
            <a:ext cx="2745000" cy="1893960"/>
            <a:chOff x="380880" y="1523880"/>
            <a:chExt cx="2745000" cy="1893960"/>
          </a:xfrm>
        </p:grpSpPr>
        <p:grpSp>
          <p:nvGrpSpPr>
            <p:cNvPr id="123" name=""/>
            <p:cNvGrpSpPr/>
            <p:nvPr/>
          </p:nvGrpSpPr>
          <p:grpSpPr>
            <a:xfrm>
              <a:off x="2209680" y="2541600"/>
              <a:ext cx="914400" cy="436680"/>
              <a:chOff x="2209680" y="2541600"/>
              <a:chExt cx="914400" cy="436680"/>
            </a:xfrm>
          </p:grpSpPr>
          <p:sp>
            <p:nvSpPr>
              <p:cNvPr id="124" name=""/>
              <p:cNvSpPr/>
              <p:nvPr/>
            </p:nvSpPr>
            <p:spPr>
              <a:xfrm>
                <a:off x="2209680" y="2541600"/>
                <a:ext cx="914400" cy="43668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209680" y="254160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c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1295280" y="2541600"/>
              <a:ext cx="914400" cy="436680"/>
              <a:chOff x="1295280" y="2541600"/>
              <a:chExt cx="914400" cy="436680"/>
            </a:xfrm>
          </p:grpSpPr>
          <p:sp>
            <p:nvSpPr>
              <p:cNvPr id="127" name=""/>
              <p:cNvSpPr/>
              <p:nvPr/>
            </p:nvSpPr>
            <p:spPr>
              <a:xfrm>
                <a:off x="1295280" y="2541600"/>
                <a:ext cx="914400" cy="43668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95280" y="254160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b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80880" y="2541600"/>
              <a:ext cx="914400" cy="436680"/>
              <a:chOff x="380880" y="2541600"/>
              <a:chExt cx="914400" cy="436680"/>
            </a:xfrm>
          </p:grpSpPr>
          <p:sp>
            <p:nvSpPr>
              <p:cNvPr id="130" name=""/>
              <p:cNvSpPr/>
              <p:nvPr/>
            </p:nvSpPr>
            <p:spPr>
              <a:xfrm>
                <a:off x="380880" y="2541600"/>
                <a:ext cx="914400" cy="43668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880" y="254160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a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209680" y="2979720"/>
              <a:ext cx="914400" cy="436680"/>
              <a:chOff x="2209680" y="2979720"/>
              <a:chExt cx="914400" cy="436680"/>
            </a:xfrm>
          </p:grpSpPr>
          <p:sp>
            <p:nvSpPr>
              <p:cNvPr id="133" name=""/>
              <p:cNvSpPr/>
              <p:nvPr/>
            </p:nvSpPr>
            <p:spPr>
              <a:xfrm>
                <a:off x="2209680" y="2979720"/>
                <a:ext cx="914400" cy="43668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09680" y="297972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c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295280" y="2979720"/>
              <a:ext cx="914400" cy="436680"/>
              <a:chOff x="1295280" y="2979720"/>
              <a:chExt cx="914400" cy="436680"/>
            </a:xfrm>
          </p:grpSpPr>
          <p:sp>
            <p:nvSpPr>
              <p:cNvPr id="136" name=""/>
              <p:cNvSpPr/>
              <p:nvPr/>
            </p:nvSpPr>
            <p:spPr>
              <a:xfrm>
                <a:off x="1295280" y="2979720"/>
                <a:ext cx="914400" cy="43668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95280" y="297972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b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80880" y="2979720"/>
              <a:ext cx="914400" cy="436680"/>
              <a:chOff x="380880" y="2979720"/>
              <a:chExt cx="914400" cy="436680"/>
            </a:xfrm>
          </p:grpSpPr>
          <p:sp>
            <p:nvSpPr>
              <p:cNvPr id="139" name=""/>
              <p:cNvSpPr/>
              <p:nvPr/>
            </p:nvSpPr>
            <p:spPr>
              <a:xfrm>
                <a:off x="380880" y="2979720"/>
                <a:ext cx="914400" cy="436680"/>
              </a:xfrm>
              <a:prstGeom prst="roundRect">
                <a:avLst>
                  <a:gd name="adj" fmla="val 361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0880" y="297972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a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209680" y="2033640"/>
              <a:ext cx="914400" cy="509400"/>
              <a:chOff x="2209680" y="2033640"/>
              <a:chExt cx="914400" cy="509400"/>
            </a:xfrm>
          </p:grpSpPr>
          <p:sp>
            <p:nvSpPr>
              <p:cNvPr id="142" name=""/>
              <p:cNvSpPr/>
              <p:nvPr/>
            </p:nvSpPr>
            <p:spPr>
              <a:xfrm>
                <a:off x="2209680" y="2033640"/>
                <a:ext cx="914400" cy="50940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09680" y="203364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c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295280" y="2033640"/>
              <a:ext cx="914400" cy="509400"/>
              <a:chOff x="1295280" y="2033640"/>
              <a:chExt cx="914400" cy="509400"/>
            </a:xfrm>
          </p:grpSpPr>
          <p:sp>
            <p:nvSpPr>
              <p:cNvPr id="145" name=""/>
              <p:cNvSpPr/>
              <p:nvPr/>
            </p:nvSpPr>
            <p:spPr>
              <a:xfrm>
                <a:off x="1295280" y="2033640"/>
                <a:ext cx="914400" cy="50940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95280" y="203364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b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80880" y="2033640"/>
              <a:ext cx="914400" cy="509400"/>
              <a:chOff x="380880" y="2033640"/>
              <a:chExt cx="914400" cy="509400"/>
            </a:xfrm>
          </p:grpSpPr>
          <p:sp>
            <p:nvSpPr>
              <p:cNvPr id="148" name=""/>
              <p:cNvSpPr/>
              <p:nvPr/>
            </p:nvSpPr>
            <p:spPr>
              <a:xfrm>
                <a:off x="380880" y="2033640"/>
                <a:ext cx="914400" cy="50940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0880" y="2033640"/>
                <a:ext cx="914400" cy="38952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499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800000"/>
                    </a:solidFill>
                    <a:latin typeface="Bitstream Vera San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209680" y="1523880"/>
              <a:ext cx="914400" cy="509760"/>
              <a:chOff x="2209680" y="1523880"/>
              <a:chExt cx="914400" cy="50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2209680" y="1523880"/>
                <a:ext cx="914400" cy="50976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09680" y="1523880"/>
                <a:ext cx="914400" cy="44856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80"/>
                    </a:solidFill>
                    <a:latin typeface="Bitstream Vera San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295280" y="1523880"/>
              <a:ext cx="914400" cy="509760"/>
              <a:chOff x="1295280" y="1523880"/>
              <a:chExt cx="914400" cy="509760"/>
            </a:xfrm>
          </p:grpSpPr>
          <p:sp>
            <p:nvSpPr>
              <p:cNvPr id="154" name=""/>
              <p:cNvSpPr/>
              <p:nvPr/>
            </p:nvSpPr>
            <p:spPr>
              <a:xfrm>
                <a:off x="1295280" y="1523880"/>
                <a:ext cx="914400" cy="50976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95280" y="1523880"/>
                <a:ext cx="914400" cy="44856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80"/>
                    </a:solidFill>
                    <a:latin typeface="Bitstream Vera San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80880" y="1523880"/>
              <a:ext cx="914400" cy="509760"/>
              <a:chOff x="380880" y="1523880"/>
              <a:chExt cx="914400" cy="509760"/>
            </a:xfrm>
          </p:grpSpPr>
          <p:sp>
            <p:nvSpPr>
              <p:cNvPr id="157" name=""/>
              <p:cNvSpPr/>
              <p:nvPr/>
            </p:nvSpPr>
            <p:spPr>
              <a:xfrm>
                <a:off x="380880" y="1523880"/>
                <a:ext cx="914400" cy="509760"/>
              </a:xfrm>
              <a:prstGeom prst="roundRect">
                <a:avLst>
                  <a:gd name="adj" fmla="val 310"/>
                </a:avLst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0880" y="1523880"/>
                <a:ext cx="914400" cy="44856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7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571680"/>
                    <a:tab algn="l" pos="1028880"/>
                    <a:tab algn="l" pos="1486080"/>
                    <a:tab algn="l" pos="1943280"/>
                    <a:tab algn="l" pos="2400480"/>
                    <a:tab algn="l" pos="2857680"/>
                    <a:tab algn="l" pos="3314880"/>
                    <a:tab algn="l" pos="3772080"/>
                    <a:tab algn="l" pos="4229280"/>
                    <a:tab algn="l" pos="4686480"/>
                    <a:tab algn="l" pos="5143680"/>
                    <a:tab algn="l" pos="5600880"/>
                    <a:tab algn="l" pos="6058080"/>
                    <a:tab algn="l" pos="6515280"/>
                    <a:tab algn="l" pos="6972480"/>
                    <a:tab algn="l" pos="7429680"/>
                    <a:tab algn="l" pos="7886880"/>
                    <a:tab algn="l" pos="8344080"/>
                    <a:tab algn="l" pos="880128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80"/>
                    </a:solidFill>
                    <a:latin typeface="Bitstream Vera San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380880" y="1523880"/>
              <a:ext cx="2743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0880" y="2033640"/>
              <a:ext cx="27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0880" y="2541600"/>
              <a:ext cx="27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0880" y="3416400"/>
              <a:ext cx="274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880" y="1523880"/>
              <a:ext cx="1800" cy="189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5280" y="1523880"/>
              <a:ext cx="180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9680" y="1523880"/>
              <a:ext cx="180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24080" y="1523880"/>
              <a:ext cx="1800" cy="189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880" y="2979720"/>
              <a:ext cx="27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819000" y="819000"/>
            <a:ext cx="478080" cy="579600"/>
          </a:xfrm>
          <a:custGeom>
            <a:avLst/>
            <a:gdLst>
              <a:gd name="textAreaLeft" fmla="*/ 360 w 478080"/>
              <a:gd name="textAreaRight" fmla="*/ 477720 w 478080"/>
              <a:gd name="textAreaTop" fmla="*/ 360 h 579600"/>
              <a:gd name="textAreaBottom" fmla="*/ 579240 h 579600"/>
            </a:gdLst>
            <a:ahLst/>
            <a:rect l="textAreaLeft" t="textAreaTop" r="textAreaRight" b="textAreaBottom"/>
            <a:pathLst>
              <a:path w="21600" h="26183">
                <a:moveTo>
                  <a:pt x="72" y="0"/>
                </a:moveTo>
                <a:arcTo wR="72" hR="72" stAng="16200000" swAng="-5400000"/>
                <a:lnTo>
                  <a:pt x="0" y="26111"/>
                </a:lnTo>
                <a:arcTo wR="72" hR="72" stAng="10800000" swAng="-5400000"/>
                <a:lnTo>
                  <a:pt x="21528" y="26183"/>
                </a:lnTo>
                <a:arcTo wR="72" hR="72" stAng="5400000" swAng="-5400000"/>
                <a:lnTo>
                  <a:pt x="21600" y="72"/>
                </a:lnTo>
                <a:arcTo wR="72" hR="7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572000" y="990720"/>
            <a:ext cx="4267080" cy="5257800"/>
            <a:chOff x="4572000" y="990720"/>
            <a:chExt cx="4267080" cy="5257800"/>
          </a:xfrm>
        </p:grpSpPr>
        <p:sp>
          <p:nvSpPr>
            <p:cNvPr id="170" name=""/>
            <p:cNvSpPr/>
            <p:nvPr/>
          </p:nvSpPr>
          <p:spPr>
            <a:xfrm>
              <a:off x="4572000" y="990720"/>
              <a:ext cx="4267080" cy="5257800"/>
            </a:xfrm>
            <a:custGeom>
              <a:avLst/>
              <a:gdLst>
                <a:gd name="textAreaLeft" fmla="*/ 360 w 4267080"/>
                <a:gd name="textAreaRight" fmla="*/ 4266720 w 4267080"/>
                <a:gd name="textAreaTop" fmla="*/ 360 h 5257800"/>
                <a:gd name="textAreaBottom" fmla="*/ 5257440 h 5257800"/>
              </a:gdLst>
              <a:ahLst/>
              <a:rect l="textAreaLeft" t="textAreaTop" r="textAreaRight" b="textAreaBottom"/>
              <a:pathLst>
                <a:path w="21600" h="26615">
                  <a:moveTo>
                    <a:pt x="8" y="0"/>
                  </a:moveTo>
                  <a:arcTo wR="8" hR="8" stAng="16200000" swAng="-5400000"/>
                  <a:lnTo>
                    <a:pt x="0" y="26607"/>
                  </a:lnTo>
                  <a:arcTo wR="8" hR="8" stAng="10800000" swAng="-5400000"/>
                  <a:lnTo>
                    <a:pt x="21592" y="26615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solidFill>
              <a:srgbClr val="e6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990720"/>
              <a:ext cx="4267080" cy="4696560"/>
            </a:xfrm>
            <a:prstGeom prst="rect">
              <a:avLst/>
            </a:prstGeom>
            <a:solidFill>
              <a:srgbClr val="e6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R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tupl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A&gt;a1&lt;/A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B&gt;b1&lt;/B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C&gt;c1&lt;/C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/tupl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tupl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A&gt;a2&lt;/A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B&gt;b2&lt;/B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C&gt;c2&lt;/C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	</a:t>
              </a: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/tupl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   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7000"/>
                </a:lnSpc>
                <a:spcBef>
                  <a:spcPts val="499"/>
                </a:spcBef>
                <a:tabLst>
                  <a:tab algn="l" pos="0"/>
                  <a:tab algn="l" pos="341280"/>
                  <a:tab algn="l" pos="798480"/>
                  <a:tab algn="l" pos="1255680"/>
                  <a:tab algn="l" pos="1712880"/>
                  <a:tab algn="l" pos="2170080"/>
                  <a:tab algn="l" pos="2627280"/>
                  <a:tab algn="l" pos="3084480"/>
                  <a:tab algn="l" pos="3541680"/>
                  <a:tab algn="l" pos="3998880"/>
                  <a:tab algn="l" pos="4456080"/>
                  <a:tab algn="l" pos="4913280"/>
                  <a:tab algn="l" pos="5370480"/>
                  <a:tab algn="l" pos="5827680"/>
                  <a:tab algn="l" pos="6284880"/>
                  <a:tab algn="l" pos="6742080"/>
                  <a:tab algn="l" pos="7199280"/>
                  <a:tab algn="l" pos="7656480"/>
                  <a:tab algn="l" pos="8113680"/>
                  <a:tab algn="l" pos="8570880"/>
                  <a:tab algn="l" pos="9028080"/>
                  <a:tab algn="l" pos="948528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itstream Vera Sans"/>
                </a:rPr>
                <a:t>&lt;/R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429000" y="2362320"/>
            <a:ext cx="838080" cy="457200"/>
          </a:xfrm>
          <a:custGeom>
            <a:avLst/>
            <a:gdLst/>
            <a:ahLst/>
            <a:rect l="l" t="t" r="r" b="b"/>
            <a:pathLst>
              <a:path w="2329" h="1271">
                <a:moveTo>
                  <a:pt x="0" y="317"/>
                </a:moveTo>
                <a:lnTo>
                  <a:pt x="1746" y="317"/>
                </a:lnTo>
                <a:lnTo>
                  <a:pt x="1746" y="0"/>
                </a:lnTo>
                <a:lnTo>
                  <a:pt x="2328" y="635"/>
                </a:lnTo>
                <a:lnTo>
                  <a:pt x="1746" y="1270"/>
                </a:lnTo>
                <a:lnTo>
                  <a:pt x="1746" y="953"/>
                </a:lnTo>
                <a:lnTo>
                  <a:pt x="0" y="953"/>
                </a:lnTo>
                <a:lnTo>
                  <a:pt x="0" y="31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7920" y="3691080"/>
            <a:ext cx="3815640" cy="2583000"/>
            <a:chOff x="97920" y="3691080"/>
            <a:chExt cx="3815640" cy="2583000"/>
          </a:xfrm>
        </p:grpSpPr>
        <p:sp>
          <p:nvSpPr>
            <p:cNvPr id="174" name=""/>
            <p:cNvSpPr/>
            <p:nvPr/>
          </p:nvSpPr>
          <p:spPr>
            <a:xfrm>
              <a:off x="1703160" y="3691080"/>
              <a:ext cx="452880" cy="582120"/>
            </a:xfrm>
            <a:custGeom>
              <a:avLst/>
              <a:gdLst>
                <a:gd name="textAreaLeft" fmla="*/ 360 w 452880"/>
                <a:gd name="textAreaRight" fmla="*/ 452520 w 452880"/>
                <a:gd name="textAreaTop" fmla="*/ 360 h 582120"/>
                <a:gd name="textAreaBottom" fmla="*/ 581760 h 582120"/>
              </a:gdLst>
              <a:ahLst/>
              <a:rect l="textAreaLeft" t="textAreaTop" r="textAreaRight" b="textAreaBottom"/>
              <a:pathLst>
                <a:path w="21600" h="27759">
                  <a:moveTo>
                    <a:pt x="75" y="0"/>
                  </a:moveTo>
                  <a:arcTo wR="75" hR="75" stAng="16200000" swAng="-5400000"/>
                  <a:lnTo>
                    <a:pt x="0" y="27684"/>
                  </a:lnTo>
                  <a:arcTo wR="75" hR="75" stAng="10800000" swAng="-5400000"/>
                  <a:lnTo>
                    <a:pt x="21525" y="27759"/>
                  </a:lnTo>
                  <a:arcTo wR="75" hR="75" stAng="5400000" swAng="-5400000"/>
                  <a:lnTo>
                    <a:pt x="21600" y="75"/>
                  </a:lnTo>
                  <a:arcTo wR="75" hR="7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97920" y="4730760"/>
              <a:ext cx="1391400" cy="1526040"/>
              <a:chOff x="97920" y="4730760"/>
              <a:chExt cx="1391400" cy="1526040"/>
            </a:xfrm>
          </p:grpSpPr>
          <p:sp>
            <p:nvSpPr>
              <p:cNvPr id="176" name=""/>
              <p:cNvSpPr/>
              <p:nvPr/>
            </p:nvSpPr>
            <p:spPr>
              <a:xfrm>
                <a:off x="480960" y="4730760"/>
                <a:ext cx="690480" cy="3996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tup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1520" y="5524560"/>
                <a:ext cx="365760" cy="399600"/>
              </a:xfrm>
              <a:custGeom>
                <a:avLst/>
                <a:gdLst>
                  <a:gd name="textAreaLeft" fmla="*/ 360 w 365760"/>
                  <a:gd name="textAreaRight" fmla="*/ 365400 w 36576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3596">
                    <a:moveTo>
                      <a:pt x="93" y="0"/>
                    </a:moveTo>
                    <a:arcTo wR="93" hR="93" stAng="16200000" swAng="-5400000"/>
                    <a:lnTo>
                      <a:pt x="0" y="23503"/>
                    </a:lnTo>
                    <a:arcTo wR="93" hR="93" stAng="10800000" swAng="-5400000"/>
                    <a:lnTo>
                      <a:pt x="21507" y="23596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8720" y="5524560"/>
                <a:ext cx="350640" cy="399600"/>
              </a:xfrm>
              <a:custGeom>
                <a:avLst/>
                <a:gdLst>
                  <a:gd name="textAreaLeft" fmla="*/ 360 w 350640"/>
                  <a:gd name="textAreaRight" fmla="*/ 350280 w 3506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4613">
                    <a:moveTo>
                      <a:pt x="97" y="0"/>
                    </a:moveTo>
                    <a:arcTo wR="97" hR="97" stAng="16200000" swAng="-5400000"/>
                    <a:lnTo>
                      <a:pt x="0" y="24516"/>
                    </a:lnTo>
                    <a:arcTo wR="97" hR="97" stAng="10800000" swAng="-5400000"/>
                    <a:lnTo>
                      <a:pt x="21503" y="24613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15920" y="5524560"/>
                <a:ext cx="350640" cy="399600"/>
              </a:xfrm>
              <a:custGeom>
                <a:avLst/>
                <a:gdLst>
                  <a:gd name="textAreaLeft" fmla="*/ 360 w 350640"/>
                  <a:gd name="textAreaRight" fmla="*/ 350280 w 3506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4613">
                    <a:moveTo>
                      <a:pt x="97" y="0"/>
                    </a:moveTo>
                    <a:arcTo wR="97" hR="97" stAng="16200000" swAng="-5400000"/>
                    <a:lnTo>
                      <a:pt x="0" y="24516"/>
                    </a:lnTo>
                    <a:arcTo wR="97" hR="97" stAng="10800000" swAng="-5400000"/>
                    <a:lnTo>
                      <a:pt x="21503" y="24613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404640" y="5187960"/>
                <a:ext cx="30492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09560" y="5189400"/>
                <a:ext cx="180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09560" y="5189400"/>
                <a:ext cx="38088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7920" y="5896080"/>
                <a:ext cx="1391400" cy="3607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0000"/>
                    </a:solidFill>
                    <a:latin typeface="Bitstream Vera Sans"/>
                  </a:rPr>
                  <a:t>a1  b1   c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225080" y="4749840"/>
              <a:ext cx="1391400" cy="1524240"/>
              <a:chOff x="1225080" y="4749840"/>
              <a:chExt cx="1391400" cy="1524240"/>
            </a:xfrm>
          </p:grpSpPr>
          <p:sp>
            <p:nvSpPr>
              <p:cNvPr id="185" name=""/>
              <p:cNvSpPr/>
              <p:nvPr/>
            </p:nvSpPr>
            <p:spPr>
              <a:xfrm>
                <a:off x="1608120" y="4749840"/>
                <a:ext cx="690480" cy="3996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tup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18680" y="5543640"/>
                <a:ext cx="365760" cy="399600"/>
              </a:xfrm>
              <a:custGeom>
                <a:avLst/>
                <a:gdLst>
                  <a:gd name="textAreaLeft" fmla="*/ 360 w 365760"/>
                  <a:gd name="textAreaRight" fmla="*/ 365400 w 36576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3596">
                    <a:moveTo>
                      <a:pt x="93" y="0"/>
                    </a:moveTo>
                    <a:arcTo wR="93" hR="93" stAng="16200000" swAng="-5400000"/>
                    <a:lnTo>
                      <a:pt x="0" y="23503"/>
                    </a:lnTo>
                    <a:arcTo wR="93" hR="93" stAng="10800000" swAng="-5400000"/>
                    <a:lnTo>
                      <a:pt x="21507" y="23596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87320" y="5543640"/>
                <a:ext cx="350640" cy="399600"/>
              </a:xfrm>
              <a:custGeom>
                <a:avLst/>
                <a:gdLst>
                  <a:gd name="textAreaLeft" fmla="*/ 360 w 350640"/>
                  <a:gd name="textAreaRight" fmla="*/ 350280 w 3506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4613">
                    <a:moveTo>
                      <a:pt x="97" y="0"/>
                    </a:moveTo>
                    <a:arcTo wR="97" hR="97" stAng="16200000" swAng="-5400000"/>
                    <a:lnTo>
                      <a:pt x="0" y="24516"/>
                    </a:lnTo>
                    <a:arcTo wR="97" hR="97" stAng="10800000" swAng="-5400000"/>
                    <a:lnTo>
                      <a:pt x="21503" y="24613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144520" y="5543640"/>
                <a:ext cx="350640" cy="399600"/>
              </a:xfrm>
              <a:custGeom>
                <a:avLst/>
                <a:gdLst>
                  <a:gd name="textAreaLeft" fmla="*/ 360 w 350640"/>
                  <a:gd name="textAreaRight" fmla="*/ 350280 w 3506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4613">
                    <a:moveTo>
                      <a:pt x="97" y="0"/>
                    </a:moveTo>
                    <a:arcTo wR="97" hR="97" stAng="16200000" swAng="-5400000"/>
                    <a:lnTo>
                      <a:pt x="0" y="24516"/>
                    </a:lnTo>
                    <a:arcTo wR="97" hR="97" stAng="10800000" swAng="-5400000"/>
                    <a:lnTo>
                      <a:pt x="21503" y="24613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1531800" y="5207040"/>
                <a:ext cx="30492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836720" y="5208480"/>
                <a:ext cx="144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836720" y="5208480"/>
                <a:ext cx="38088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225080" y="5913360"/>
                <a:ext cx="1391400" cy="36072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0000"/>
                    </a:solidFill>
                    <a:latin typeface="Bitstream Vera Sans"/>
                  </a:rPr>
                  <a:t>a2  b2   c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522160" y="4749840"/>
              <a:ext cx="1391400" cy="1524240"/>
              <a:chOff x="2522160" y="4749840"/>
              <a:chExt cx="1391400" cy="1524240"/>
            </a:xfrm>
          </p:grpSpPr>
          <p:sp>
            <p:nvSpPr>
              <p:cNvPr id="194" name=""/>
              <p:cNvSpPr/>
              <p:nvPr/>
            </p:nvSpPr>
            <p:spPr>
              <a:xfrm>
                <a:off x="2905200" y="4749840"/>
                <a:ext cx="690480" cy="39960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tup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13960" y="5543640"/>
                <a:ext cx="365760" cy="399600"/>
              </a:xfrm>
              <a:custGeom>
                <a:avLst/>
                <a:gdLst>
                  <a:gd name="textAreaLeft" fmla="*/ 360 w 365760"/>
                  <a:gd name="textAreaRight" fmla="*/ 365400 w 36576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3596">
                    <a:moveTo>
                      <a:pt x="93" y="0"/>
                    </a:moveTo>
                    <a:arcTo wR="93" hR="93" stAng="16200000" swAng="-5400000"/>
                    <a:lnTo>
                      <a:pt x="0" y="23503"/>
                    </a:lnTo>
                    <a:arcTo wR="93" hR="93" stAng="10800000" swAng="-5400000"/>
                    <a:lnTo>
                      <a:pt x="21507" y="23596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82960" y="5543640"/>
                <a:ext cx="350640" cy="399600"/>
              </a:xfrm>
              <a:custGeom>
                <a:avLst/>
                <a:gdLst>
                  <a:gd name="textAreaLeft" fmla="*/ 360 w 350640"/>
                  <a:gd name="textAreaRight" fmla="*/ 350280 w 3506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4613">
                    <a:moveTo>
                      <a:pt x="97" y="0"/>
                    </a:moveTo>
                    <a:arcTo wR="97" hR="97" stAng="16200000" swAng="-5400000"/>
                    <a:lnTo>
                      <a:pt x="0" y="24516"/>
                    </a:lnTo>
                    <a:arcTo wR="97" hR="97" stAng="10800000" swAng="-5400000"/>
                    <a:lnTo>
                      <a:pt x="21503" y="24613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38360" y="5543640"/>
                <a:ext cx="350640" cy="399600"/>
              </a:xfrm>
              <a:custGeom>
                <a:avLst/>
                <a:gdLst>
                  <a:gd name="textAreaLeft" fmla="*/ 360 w 350640"/>
                  <a:gd name="textAreaRight" fmla="*/ 350280 w 350640"/>
                  <a:gd name="textAreaTop" fmla="*/ 360 h 399600"/>
                  <a:gd name="textAreaBottom" fmla="*/ 399240 h 399600"/>
                </a:gdLst>
                <a:ahLst/>
                <a:rect l="textAreaLeft" t="textAreaTop" r="textAreaRight" b="textAreaBottom"/>
                <a:pathLst>
                  <a:path w="21600" h="24613">
                    <a:moveTo>
                      <a:pt x="97" y="0"/>
                    </a:moveTo>
                    <a:arcTo wR="97" hR="97" stAng="16200000" swAng="-5400000"/>
                    <a:lnTo>
                      <a:pt x="0" y="24516"/>
                    </a:lnTo>
                    <a:arcTo wR="97" hR="97" stAng="10800000" swAng="-5400000"/>
                    <a:lnTo>
                      <a:pt x="21503" y="24613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2828880" y="5207040"/>
                <a:ext cx="30492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133800" y="5208480"/>
                <a:ext cx="144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33800" y="5208480"/>
                <a:ext cx="38088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22160" y="5913360"/>
                <a:ext cx="1391400" cy="360720"/>
              </a:xfrm>
              <a:prstGeom prst="roundRect">
                <a:avLst>
                  <a:gd name="adj" fmla="val 34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0000"/>
                    </a:solidFill>
                    <a:latin typeface="Bitstream Vera Sans"/>
                  </a:rPr>
                  <a:t>a3  b3   c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1852560" y="4308480"/>
              <a:ext cx="1800" cy="52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60040" y="4308480"/>
              <a:ext cx="99396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52560" y="4308480"/>
              <a:ext cx="129528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352680" y="4114800"/>
            <a:ext cx="838440" cy="457200"/>
          </a:xfrm>
          <a:custGeom>
            <a:avLst/>
            <a:gdLst/>
            <a:ahLst/>
            <a:rect l="l" t="t" r="r" b="b"/>
            <a:pathLst>
              <a:path w="2330" h="1271">
                <a:moveTo>
                  <a:pt x="2329" y="317"/>
                </a:moveTo>
                <a:lnTo>
                  <a:pt x="582" y="317"/>
                </a:lnTo>
                <a:lnTo>
                  <a:pt x="582" y="0"/>
                </a:lnTo>
                <a:lnTo>
                  <a:pt x="0" y="635"/>
                </a:lnTo>
                <a:lnTo>
                  <a:pt x="582" y="1270"/>
                </a:lnTo>
                <a:lnTo>
                  <a:pt x="582" y="953"/>
                </a:lnTo>
                <a:lnTo>
                  <a:pt x="2329" y="953"/>
                </a:lnTo>
                <a:lnTo>
                  <a:pt x="2329" y="31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el Tammet</cp:lastModifiedBy>
  <cp:revision>0</cp:revision>
  <dc:subject/>
  <dc:title>No Slide Title</dc:title>
</cp:coreProperties>
</file>